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9552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4164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68200" y="693720"/>
            <a:ext cx="46177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877860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41640" y="877860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DCC6BFD-F612-4689-B127-B0773C1F3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C7523CD-30B2-4785-B1A0-BB4B25D00BD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E7AA056-2121-48C1-ABBA-979E306143E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3AB9F7C-C06C-40F0-98C5-B826956C06A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AB3E6DD-780A-4588-9F2B-CE73CAF9FAC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C833759-22DB-459E-9BFA-56525D9407B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A4D1780-2D47-455E-B82E-926F3BF750D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76AE9AD-3493-4D8F-81A9-C6F37E426F6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2DA3F5A-BEF1-4856-8FE8-D648934C1F3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E8AA8A2-43F9-4D5C-BA23-45FF0AE0B5F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6136EB1-0DD0-4AF5-B209-740543EE63C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FB257A5-4C9E-4928-B285-1CB93090D22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7A342F2-8CDA-4CD9-B6AD-713454EB792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77AF911-1B9E-4B33-B240-17874BF156B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9594230-C70F-40F7-B5DA-BD8A32F956B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62A42C8-D55C-41CE-A494-3CC1606050E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CD1B16F-8208-490D-9BD2-48C4E1D98AD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AC023F3-F3CD-4DA4-8318-F768E301551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EB67DDF-4E63-4B5F-BB39-0F8F57BD54D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3073DBE-6F43-4A37-9406-1C66EA414F3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C829EA4-4640-46A0-B751-72582BDEF0D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20BC589-F321-46EB-A5B6-DCADF0A7D2A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419BFC7-BE56-4880-A03F-8E3340D7721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4D707D7-54C4-47DE-83BD-6D6812578D6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B402C32-615B-4B0B-AF0A-D10DFDD36B4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AD70BA8-B40B-4C79-846F-FC9A84342AD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96ABD6B-3065-4E92-AD22-09EB2ED9E5F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3116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320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3116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320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120" y="228240"/>
            <a:ext cx="8334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3116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320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3116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320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228240"/>
            <a:ext cx="8334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27"/>
          <p:cNvSpPr/>
          <p:nvPr/>
        </p:nvSpPr>
        <p:spPr>
          <a:xfrm>
            <a:off x="533520" y="6324480"/>
            <a:ext cx="373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vy Hands: An Introduction to the Crime of Intimate and Family Violence, 4</a:t>
            </a:r>
            <a:r>
              <a:rPr b="1" i="1" lang="en-US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.,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osseli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Text Box 28"/>
          <p:cNvSpPr/>
          <p:nvPr/>
        </p:nvSpPr>
        <p:spPr>
          <a:xfrm>
            <a:off x="5257800" y="638496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© 2010 Pearson Higher Education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pper Saddle River, NJ 07458. • All Rights Reserved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29"/>
          <p:cNvSpPr/>
          <p:nvPr/>
        </p:nvSpPr>
        <p:spPr>
          <a:xfrm>
            <a:off x="43434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848E-36E2-4983-B6F6-66C1CB412B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30" descr="bluegradientbar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5" descr=""/>
          <p:cNvPicPr/>
          <p:nvPr/>
        </p:nvPicPr>
        <p:blipFill>
          <a:blip r:embed="rId3"/>
          <a:stretch/>
        </p:blipFill>
        <p:spPr>
          <a:xfrm>
            <a:off x="4038480" y="6248520"/>
            <a:ext cx="1143000" cy="438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Chapter:11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19320" y="25909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Police Response to IPV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referred and Mandatory Arrest Polici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160" y="990720"/>
            <a:ext cx="8421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est policies are stated in the laws of each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cies have also been legislated in federal, military, and tribal la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ndatory arr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arrest without  a warrant, based on probable ca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arrest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ity to arrest without a warrant as the preferred, but not required. Incident report justifying why no arrest was made may be requ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ual arre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both parties are arrested, a discouraged practice, fails to protect victi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rimary Aggressor Determinatio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09480" y="1066680"/>
            <a:ext cx="8345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aggressor, “predominate aggressor” or “dominate aggressor”: is the person responsible for the perpetuation of the violence, not necessarily who initiated it the particular incid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not include who started the verbal arguments, verbal provocation is not a justifiable cause for assaultive behav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4 states have laws that contain a special aggressor designa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How Do Police Get Involved?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9480" y="914400"/>
            <a:ext cx="8345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ity of calls for service are domestic violence rel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estic violence calls are crisis situations, in which violence is still occur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er may be the victim, a child, neighbor or someone el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atcher will gather information and prepare the police officer responding to the ho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At the Scen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914400"/>
            <a:ext cx="8345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aware that violence is imminent, look and listen, determine the level of an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calls are misdemeanor cri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e officer mu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720" indent="-457560">
              <a:spcBef>
                <a:spcPts val="700"/>
              </a:spcBef>
              <a:buClr>
                <a:srgbClr val="ff0000"/>
              </a:buClr>
              <a:buSzPct val="55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if emergency medical care is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720" indent="-457560">
              <a:spcBef>
                <a:spcPts val="700"/>
              </a:spcBef>
              <a:buClr>
                <a:srgbClr val="ff0000"/>
              </a:buClr>
              <a:buSzPct val="55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gate to determine who is the perpetr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720" indent="-457560">
              <a:spcBef>
                <a:spcPts val="700"/>
              </a:spcBef>
              <a:buClr>
                <a:srgbClr val="ff0000"/>
              </a:buClr>
              <a:buSzPct val="55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 the level of risk for injury to the vict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720" indent="-457560">
              <a:spcBef>
                <a:spcPts val="700"/>
              </a:spcBef>
              <a:buClr>
                <a:srgbClr val="ff0000"/>
              </a:buClr>
              <a:buSzPct val="55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 the evid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720" indent="-457560">
              <a:spcBef>
                <a:spcPts val="700"/>
              </a:spcBef>
              <a:buClr>
                <a:srgbClr val="ff0000"/>
              </a:buClr>
              <a:buSzPct val="55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o Arrest or Not to Arrest: That is the Question!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ve questions to consid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9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he action constitute a cri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9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re probable cause that a crime was commit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9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crime a misdemeanor or a felon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9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he officer have the warrantless power of arrest for that cri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9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re an outstanding protection order that has been viol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ivil Protection Cod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es from state to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states make it a criminal offense to violate a restraining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3 states mandate an arrest when there is a violation of the restraining ord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Mental Health Cod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may be necessary to remove suspects and hold them involuntary for evaluation at a mental health fac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ergency procedures for overnight commitments are specific to each st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Use of Available Resourc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480" y="106632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and state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ing and developing the sources for extralegal interventions are beneficial to both the victim and the offic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elder services or adult protection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department of social service and child protection ag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ctim witness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crisis centers – emergency she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hat About Probable Cause?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09480" y="114264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andard of proof that must be satisfied for any search or seizure to occ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ing probable ca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ve knowledge doctr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ledge about the susp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pect’s behavior to pol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able hears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ations of the pol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earch and Seizur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ptions To The Warrant Requi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n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gent Circumstance And Domestic Vio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Incident To A Lawful Ar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in-view Seiz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09480" y="990720"/>
            <a:ext cx="8345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ack of consensus has resulted in practices that vary widely from state to st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clear directions on how to handle complex problems of intimate partner violence cause police officers to respond inappropriat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vil protection codes and mental health codes appear to complicate the police respon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hat Police Look For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09480" y="990720"/>
            <a:ext cx="8345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ctim informatio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ness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pect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idence to be seized whenever possi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55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odstained articles and clot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55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graphs of the damage to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55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graphs of the inj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55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graphs of the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55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ultiple locations, each should be documented for damage, evidence se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terviewing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106632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e parties and question individu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phases of the intervie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ff0000"/>
              </a:buClr>
              <a:buSzPct val="55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ratio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ff0000"/>
              </a:buClr>
              <a:buSzPct val="55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ment of the psychological content,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ff0000"/>
              </a:buClr>
              <a:buSzPct val="55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ctual questio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Risk Assessmen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990720"/>
            <a:ext cx="8345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suspect believe the victim is attempting to end the relationshi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suspect posses a weap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suspect abuse alcohol or drug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re threats ma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the suspect committed any previous sexual assaults against the victi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the suspect been following the victi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 and severity of the viole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batterer depressed or suffering from mental health problem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terviewing the Older Adult Victim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066320"/>
            <a:ext cx="8192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gations should be coordinated with adult protective ser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interviews with public health nurses or others treating medical cond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empt to establish rappor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udio and video technology, if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ect confidenti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ent contamination, avoid disclos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viewers should ask general ques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 for relevant witnesses and their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terrogation of Suspects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114264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ctim Prot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s of Pro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n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al Instant Criminal Background Check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ession of Firearm while Subject to Order of Pro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ession of Firearm after Conviction of Misdemeanor Crime of Domestic Vio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PA Across State Lin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09480" y="1218960"/>
            <a:ext cx="8345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state domestic violence and interstate violation of protection orders are two new federal offen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s when batterer travels across state lines to reach the vict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if the victim was induced to travel across the state lines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onal Stalker and Domestic Violence Reduction Act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Full Faith and Credit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09480" y="990720"/>
            <a:ext cx="8345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e officers are required to enforce protection orders from other states under the Violence Against Women Act (VAW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ssed by Congress in 1994, reauthorized in 20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rehensive efforts to address intimate partner violence, sexual assault, and stalk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date means that a state must enforce another state’s protection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riminalization of Intimate Partner Violenc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066320"/>
            <a:ext cx="8497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ce have a duty to respo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amily Crisis Model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ce officers were trained to negotiate with the parties and refer them to social service agen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 research by the National Institute of Justice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pouse Assault Replication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inneapolis Domestic Violence 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pects arrested, reduced the number of  re-offen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riminalization of intimate partner violence is strongly influenced by resea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e Role of Polic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480" y="761760"/>
            <a:ext cx="83455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estic disturbances require a substantial portion of  police resour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ween 15 and more than 50 percent of all calls to police are domestic rel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ole of police is a challenging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galistic response and expectations to meet the needs of the victims can cause a role conflict and increase stress for offic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ingly required by law and police to make arrest in cases of domestic viol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e Effects of Arrest on IPV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480" y="99036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RP research fueled the debate on the effectiveness of arr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ication experiments reported that the use of arrest was only occasionally associated with significant reduction in subsequent repeat offen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ings by Maxwell et al, provided evidence supporting the argument that arresting male batterers  may reduce subsequent intimate partner viol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ypology of Police Responses to Domestic Violenc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09480" y="1752480"/>
            <a:ext cx="8345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ct Enfor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Offi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Investig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olice Officer Training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4920" y="990720"/>
            <a:ext cx="8650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ning on domestic violence is impera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-quarters of police departments require specialized domestic violence trai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3 percent require the training be received during the both in-service and recruit trai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 extensive adequate training, police will not implement IPV laws proper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pecialized Domestic Violence Response Unit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9480" y="1447920"/>
            <a:ext cx="8345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icers investigate as if victim is not available to testify on tri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ized domestic violence training with emphasis on evidence coll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written policies will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cedures regarding the arrest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ndling of violations of protection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ducting on-scene investig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ts significantly increase the likelihood of prosecution, conviction, and sentenc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Arrest Procedur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480" y="914400"/>
            <a:ext cx="8345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andate not clear, many states have preferred and mandated arrest polic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state has laws that provide police with the power to arrest, conditions for arrest, vary great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catego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datory arrest (20 sta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arrest (9 sta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est is at the officer’s discretion (21 sta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9:58:21Z</dcterms:created>
  <dc:creator>MDC</dc:creator>
  <dc:description/>
  <dc:language>en-US</dc:language>
  <cp:lastModifiedBy>Michelle Churma</cp:lastModifiedBy>
  <dcterms:modified xsi:type="dcterms:W3CDTF">2009-08-04T14:26:15Z</dcterms:modified>
  <cp:revision>146</cp:revision>
  <dc:subject/>
  <dc:title>Slide 1</dc:title>
</cp:coreProperties>
</file>